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6CEA-8BB3-49EF-80B5-EA00D101C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95A0-D207-455F-9283-901127A9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AFF9-8506-454A-8086-545958664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B1E7-A0C1-4D23-96CB-DB09E172B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A4D7-37CD-4134-AA31-86E1D81C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EADE-FC17-4FBA-A24A-BA1EC2F1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1BB3-66FA-4A70-B383-E8CE5412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3DD4-1E8C-4AB0-A4DE-6A3DF784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15CB-DDFC-46AC-B1F4-D0F9ACA1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699E-3CA5-4967-BF9E-8FF4BC22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7130-6B4F-4D0B-BB36-5F652462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4B44-3664-4EA8-B215-7E2E242D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E65A-009C-4C5F-BFC0-FC8B892D08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042920" y="907920"/>
            <a:ext cx="7345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Экологический светофо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042920" y="580536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Разработала учитель МБОУ СОШ №9 Савина Н.Б., октябрь 2011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1332000" y="4680000"/>
            <a:ext cx="717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Урок - игра для 5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0000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Планета Земля и Луна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Центр галакти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46" name="zdravstvuy_skazka.mp3" descr=""/>
          <p:cNvPicPr/>
          <p:nvPr/>
        </p:nvPicPr>
        <p:blipFill>
          <a:blip r:embed="rId2"/>
          <a:stretch/>
        </p:blipFill>
        <p:spPr>
          <a:xfrm>
            <a:off x="357120" y="714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ANd9GcTlgCCR_sYgV8Cng8KJyAYCEq00vdSyk0xpwvnrK1dbxHT_ON2Pqg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Солнечная система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ANd9GcTRRAWpz4lq2QRiKUEtkdBZJq4qTgvl57b5tU86neR8IVrKFLf10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16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556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265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1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6T20:20:10Z</dcterms:created>
  <dc:creator>1</dc:creator>
  <dc:description/>
  <dc:language>en-US</dc:language>
  <cp:lastModifiedBy>Щелкунова Н.А.</cp:lastModifiedBy>
  <dcterms:modified xsi:type="dcterms:W3CDTF">2011-10-24T08:08:27Z</dcterms:modified>
  <cp:revision>12</cp:revision>
  <dc:subject/>
  <dc:title>Слайд 1</dc:title>
</cp:coreProperties>
</file>